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2909-64B6-4BC1-8629-74986D07C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4F56-DED4-4910-A08F-4E85DA5C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4DC4-185D-41FA-9765-19EBCB172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EF71-BBE3-4C9B-8A07-05B0A6435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CB7A-090E-488B-8218-6ACC25EF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AB53-F582-4698-BA97-695D8D64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0FAC-BFB3-4344-88E6-728AC67A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B33A-7245-4849-8D3A-F251A28C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98C1-71BE-43B7-ABF3-047787CB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BC00-4E75-4995-AFC1-B087E792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B647-4C84-49D2-BE37-18503556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97A6-B9AA-424B-9CDE-FDD40F81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4866-2083-4BCF-ADC6-A50E09E5C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064040" y="1200240"/>
            <a:ext cx="1422360" cy="100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3880" y="2286000"/>
            <a:ext cx="629928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NE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ITED STATES AR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LDIERD SUPPORT INSTITU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Flow of Personnel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 HAND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03040" y="171360"/>
            <a:ext cx="8686800" cy="639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14:11:56Z</dcterms:created>
  <dc:creator>mike.a.williams</dc:creator>
  <dc:description/>
  <dc:language>en-US</dc:language>
  <cp:lastModifiedBy>Administrator</cp:lastModifiedBy>
  <dcterms:modified xsi:type="dcterms:W3CDTF">2005-07-07T13:47:17Z</dcterms:modified>
  <cp:revision>2</cp:revision>
  <dc:subject/>
  <dc:title>Slide 1</dc:title>
</cp:coreProperties>
</file>